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7BBD-D8CB-4C9D-BD1D-693799AE7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7456-767B-424D-B017-09331FAA0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D13F-D7E9-4CF4-8952-A4B0C48FE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7B4F-C5C9-40E2-A5F8-E00243692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3EF55-52DA-4DDB-B075-6102A1AD7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64AFC-D8E1-4299-860D-3048E18CB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0D47C-D496-4428-B273-B077D1114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6C6F5-FEDB-4154-ACDD-DAF39B778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3CB60-598A-4BDD-8DEC-48BDF5BB2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9521E-7501-4623-8959-E05B4B580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7772A-349E-4466-92EA-4C36F80B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2775-56D2-497D-8EAD-0CE35C92A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03C8D-D374-4094-931F-03B02EFA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B4A6E-B4A4-4142-9844-31899E97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9D6C3-0BA8-484E-8E7D-3B0974D44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D437D-7496-4650-A3FA-E084BDFA8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E4273-5E1E-4CA3-9E4A-FDB056821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D5E3-6AAC-4F5C-BA3E-D10B661E8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7BB9-1354-4CA5-AC60-441C112F7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449E-C10F-4D29-9835-C38FD7F89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05CB-54E0-4547-9D84-4C20FC1A5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25A1-C1DF-4FAB-8609-8D7097E9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98F3-4D2F-4C6F-B882-02509C12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5CF4-5CEC-46A6-A1C9-05782C4D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1FFFF-0EBF-44E4-96DF-557827493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BCB78-8CF8-4E97-87F3-060607BF038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762120" y="609480"/>
          <a:ext cx="8229600" cy="5639040"/>
        </p:xfrm>
        <a:graphic>
          <a:graphicData uri="http://schemas.openxmlformats.org/drawingml/2006/table">
            <a:tbl>
              <a:tblPr/>
              <a:tblGrid>
                <a:gridCol w="914400"/>
                <a:gridCol w="582480"/>
                <a:gridCol w="747720"/>
                <a:gridCol w="747720"/>
                <a:gridCol w="747720"/>
                <a:gridCol w="749160"/>
                <a:gridCol w="747720"/>
                <a:gridCol w="747720"/>
                <a:gridCol w="747720"/>
                <a:gridCol w="749520"/>
                <a:gridCol w="747720"/>
              </a:tblGrid>
              <a:tr h="426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ประเภท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</a:t>
                      </a:r>
                      <a:r>
                        <a:rPr b="1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ชั้นงาน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3366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ความรู้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33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ทักษ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33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สมรรถน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33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8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ในงาน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กฎหมาย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คอม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อังกฤ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คำนวณ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จัดการข้อมูล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</a:t>
                      </a:r>
                      <a:r>
                        <a:rPr b="1" lang="hi-IN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หลั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ทางการบริหาร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เฉพา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ผู้ทรง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ปฏิบัติงาน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1d1f0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ชำนาญงาน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1d1f0"/>
                    </a:solidFill>
                  </a:tcPr>
                </a:tc>
              </a:tr>
              <a:tr h="39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อาวุโส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1d1f0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ทักษะพิเศ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1d1f0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ปฏิบัติการ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ชำนาญการ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98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ชำนาญการพิเศ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เชี่ยวชาญ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ทรงคุณวุฒ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อำนวยฯต้น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อำนวยฯสูง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66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67"/>
          <p:cNvSpPr/>
          <p:nvPr/>
        </p:nvSpPr>
        <p:spPr>
          <a:xfrm>
            <a:off x="-111600" y="42840"/>
            <a:ext cx="86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ระดับสมรรถนะหลักที่คาดหวัง แบ่งตามประเภทและชั้นงา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168"/>
          <p:cNvSpPr/>
          <p:nvPr/>
        </p:nvSpPr>
        <p:spPr>
          <a:xfrm>
            <a:off x="0" y="320040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169"/>
          <p:cNvSpPr/>
          <p:nvPr/>
        </p:nvSpPr>
        <p:spPr>
          <a:xfrm>
            <a:off x="0" y="541008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170"/>
          <p:cNvSpPr/>
          <p:nvPr/>
        </p:nvSpPr>
        <p:spPr>
          <a:xfrm>
            <a:off x="81000" y="1446120"/>
            <a:ext cx="592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ทั่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ไ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71"/>
          <p:cNvSpPr/>
          <p:nvPr/>
        </p:nvSpPr>
        <p:spPr>
          <a:xfrm>
            <a:off x="-20160" y="3705120"/>
            <a:ext cx="74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วิช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กา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172"/>
          <p:cNvSpPr/>
          <p:nvPr/>
        </p:nvSpPr>
        <p:spPr>
          <a:xfrm>
            <a:off x="85680" y="5491080"/>
            <a:ext cx="76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Arial"/>
              </a:rPr>
              <a:t>อำ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Arial"/>
              </a:rPr>
              <a:t>นวยการ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th-TH" sz="1600" spc="-1" strike="noStrike">
                <a:solidFill>
                  <a:srgbClr val="ffffff"/>
                </a:solidFill>
                <a:latin typeface="Arial"/>
              </a:rPr>
              <a:t>บริหาร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74"/>
          <p:cNvSpPr/>
          <p:nvPr/>
        </p:nvSpPr>
        <p:spPr>
          <a:xfrm>
            <a:off x="7541640" y="74520"/>
            <a:ext cx="140292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แบบ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IDP 1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07:22:59Z</dcterms:created>
  <dc:creator>acer</dc:creator>
  <dc:description/>
  <dc:language>en-US</dc:language>
  <cp:lastModifiedBy>HomeUser</cp:lastModifiedBy>
  <dcterms:modified xsi:type="dcterms:W3CDTF">2012-05-24T04:51:36Z</dcterms:modified>
  <cp:revision>22</cp:revision>
  <dc:subject/>
  <dc:title>ภาพนิ่ง 1</dc:title>
</cp:coreProperties>
</file>