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636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73EF17-7D3C-459A-9810-C5AF5E3EA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672FE96C-96C8-4139-BA0F-1DC6739A1360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B0E7D6-B8FE-480C-A4B7-F80CD84CA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DE7-FA8D-476A-8941-D5906BCA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429-D52C-4227-8BFC-50B57250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CEB-303D-487F-ABC6-129F9655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B47-1796-49BD-8D0B-4B11ADFA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500-CB09-467E-829F-48B72D93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B27-8ADF-4120-B023-E9B6F1AF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40B-0A4F-4E37-95D0-34F3B615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3DD-C9D2-40A3-81D1-7AAD1046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F02-DECD-4CB7-9FDB-004059F8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980-5512-44B0-AFB8-C7C4C59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BCE-E5D9-437E-B362-5F3447C4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3DF-C5A1-4D38-8FB7-648CCE1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9DA7-6672-4E3E-A5F9-61AD57CAD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3431-1626-4AB8-B9FD-36A552DB4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:\Users\ocsc\Pictures\008-109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457200" y="54100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ffffff"/>
                </a:solidFill>
                <a:latin typeface="Angsana New"/>
              </a:rPr>
              <a:t>สมรรถนะในราชการพลเรือนไท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E37-3D5D-4C30-8557-4989D4EB752E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7" descr="28_Bar"/>
          <p:cNvPicPr/>
          <p:nvPr/>
        </p:nvPicPr>
        <p:blipFill>
          <a:blip r:embed="rId1"/>
          <a:srcRect l="0" t="0" r="54257" b="-8648"/>
          <a:stretch/>
        </p:blipFill>
        <p:spPr>
          <a:xfrm>
            <a:off x="6005520" y="3162240"/>
            <a:ext cx="3024360" cy="1098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527200" y="1425600"/>
            <a:ext cx="5935680" cy="1360440"/>
          </a:xfrm>
          <a:prstGeom prst="rect">
            <a:avLst/>
          </a:prstGeom>
          <a:solidFill>
            <a:srgbClr val="ff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FreesiaUPC"/>
                <a:cs typeface="FreesiaUPC"/>
              </a:rPr>
              <a:t>สมรรถนะ คือ คุณลักษณะเชิงพฤติกรรมที่เป็นผลมาจากความรู้ ทักษะ ความสามารถ และคุณลักษณะอื่นๆ ที่ทำให้บุคคลสามารถสร้างผลงานที่โดดเด่นในองค์ก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 rot="10800000">
            <a:off x="3362040" y="1235160"/>
            <a:ext cx="390600" cy="2887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2511360" y="592200"/>
            <a:ext cx="33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10253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crosoft Sans Serif"/>
              </a:rPr>
              <a:t>Competency</a:t>
            </a:r>
            <a:endParaRPr b="0" lang="en-US" sz="3200" spc="1" strike="noStrike">
              <a:ln w="0">
                <a:noFill/>
              </a:ln>
              <a:solidFill>
                <a:srgbClr val="10253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0" y="2549520"/>
            <a:ext cx="3379320" cy="3504960"/>
            <a:chOff x="0" y="2549520"/>
            <a:chExt cx="3379320" cy="3504960"/>
          </a:xfrm>
        </p:grpSpPr>
        <p:sp>
          <p:nvSpPr>
            <p:cNvPr id="108" name="Oval 7"/>
            <p:cNvSpPr/>
            <p:nvPr/>
          </p:nvSpPr>
          <p:spPr>
            <a:xfrm>
              <a:off x="0" y="2549520"/>
              <a:ext cx="3288240" cy="3504960"/>
            </a:xfrm>
            <a:prstGeom prst="ellipse">
              <a:avLst/>
            </a:prstGeom>
            <a:solidFill>
              <a:srgbClr val="d2f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456480" y="2930400"/>
              <a:ext cx="292284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ความรู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ทักษ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ความเชี่ยวชา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ทัศนคต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ความสามาร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ค่านิย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แรงจูงใ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แรงขับเคลื่อนภายใ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ใจรักที่จะท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9"/>
          <p:cNvSpPr/>
          <p:nvPr/>
        </p:nvSpPr>
        <p:spPr>
          <a:xfrm>
            <a:off x="501480" y="2778120"/>
            <a:ext cx="2743200" cy="289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3247920" y="3122640"/>
            <a:ext cx="2692440" cy="1235160"/>
          </a:xfrm>
          <a:prstGeom prst="ellipse">
            <a:avLst/>
          </a:prstGeom>
          <a:solidFill>
            <a:srgbClr val="3b3b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การปฏิบัติราช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 rot="5400000">
            <a:off x="3068640" y="3535200"/>
            <a:ext cx="681120" cy="38592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 rot="5400000">
            <a:off x="5635080" y="3535200"/>
            <a:ext cx="681120" cy="38556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3798720" y="4454640"/>
            <a:ext cx="341640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FreesiaUPC"/>
                <a:cs typeface="FreesiaUPC"/>
              </a:rPr>
              <a:t>สังเกตได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FreesiaUPC"/>
                <a:cs typeface="FreesiaUPC"/>
              </a:rPr>
              <a:t>วัดประเมินได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FreesiaUPC"/>
                <a:cs typeface="FreesiaUPC"/>
              </a:rPr>
              <a:t>สามารถเข้าใจและปรับตัวได้ง่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FreesiaUPC"/>
                <a:cs typeface="FreesiaUPC"/>
              </a:rPr>
              <a:t>เรียนรู้และปรับเปลี่ยนได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3" descr="BD21302_"/>
          <p:cNvPicPr/>
          <p:nvPr/>
        </p:nvPicPr>
        <p:blipFill>
          <a:blip r:embed="rId2"/>
          <a:stretch/>
        </p:blipFill>
        <p:spPr>
          <a:xfrm>
            <a:off x="3594240" y="453240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BD21302_"/>
          <p:cNvPicPr/>
          <p:nvPr/>
        </p:nvPicPr>
        <p:blipFill>
          <a:blip r:embed="rId3"/>
          <a:stretch/>
        </p:blipFill>
        <p:spPr>
          <a:xfrm>
            <a:off x="3594240" y="497196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BD21302_"/>
          <p:cNvPicPr/>
          <p:nvPr/>
        </p:nvPicPr>
        <p:blipFill>
          <a:blip r:embed="rId4"/>
          <a:stretch/>
        </p:blipFill>
        <p:spPr>
          <a:xfrm>
            <a:off x="3594240" y="544500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BD21302_"/>
          <p:cNvPicPr/>
          <p:nvPr/>
        </p:nvPicPr>
        <p:blipFill>
          <a:blip r:embed="rId5"/>
          <a:stretch/>
        </p:blipFill>
        <p:spPr>
          <a:xfrm>
            <a:off x="3594240" y="5899320"/>
            <a:ext cx="225360" cy="239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9"/>
          <p:cNvSpPr/>
          <p:nvPr/>
        </p:nvSpPr>
        <p:spPr>
          <a:xfrm>
            <a:off x="6550200" y="3189240"/>
            <a:ext cx="210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FreesiaUPC"/>
                <a:cs typeface="FreesiaUPC"/>
              </a:rPr>
              <a:t>ผลการปฏิบัติงานที่ดีเลิ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306-BA4B-422E-8DED-08A1548C72C7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5305320" y="3143160"/>
            <a:ext cx="3338640" cy="1446480"/>
          </a:xfrm>
          <a:prstGeom prst="flowChartAlternateProcess">
            <a:avLst/>
          </a:prstGeom>
          <a:gradFill rotWithShape="0">
            <a:gsLst>
              <a:gs pos="0">
                <a:srgbClr val="dcb0dc"/>
              </a:gs>
              <a:gs pos="50000">
                <a:srgbClr val="ffccff"/>
              </a:gs>
              <a:gs pos="100000">
                <a:srgbClr val="dcb0dc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333399"/>
                </a:solidFill>
                <a:latin typeface="FreesiaUPC"/>
                <a:cs typeface="FreesiaUPC"/>
              </a:rPr>
              <a:t>เลือ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“</a:t>
            </a:r>
            <a:r>
              <a:rPr b="0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ระดับ” สมรรถนะที่ใกล้เคียงกับพฤติกรรมที่สังเกตพ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752480" y="2057400"/>
            <a:ext cx="3210120" cy="12780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9999"/>
                </a:solidFill>
                <a:latin typeface="FreesiaUPC"/>
                <a:cs typeface="FreesiaUPC"/>
              </a:rPr>
              <a:t>สังเกต</a:t>
            </a:r>
            <a:r>
              <a:rPr b="1" lang="th-TH" sz="4000" spc="-1" strike="noStrike">
                <a:solidFill>
                  <a:srgbClr val="009999"/>
                </a:solidFill>
                <a:latin typeface="FreesiaUPC"/>
                <a:ea typeface="FreesiaUPC"/>
              </a:rPr>
              <a:t>/</a:t>
            </a:r>
            <a:r>
              <a:rPr b="1" lang="th-TH" sz="4000" spc="-1" strike="noStrike">
                <a:solidFill>
                  <a:srgbClr val="009999"/>
                </a:solidFill>
                <a:latin typeface="FreesiaUPC"/>
                <a:cs typeface="FreesiaUPC"/>
              </a:rPr>
              <a:t>ทบทว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ฤติกรรม และวิธีการทำ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828800" y="4648320"/>
            <a:ext cx="3133800" cy="1457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9999"/>
                </a:solidFill>
                <a:latin typeface="FreesiaUPC"/>
                <a:cs typeface="FreesiaUPC"/>
              </a:rPr>
              <a:t>อ่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ฤติกรรมชี้วัด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FreesiaUPC"/>
                <a:cs typeface="FreesiaUPC"/>
              </a:rPr>
              <a:t>ทุก</a:t>
            </a:r>
            <a:r>
              <a:rPr b="0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ระด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ในรายการสมรรถ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584440" y="4029120"/>
            <a:ext cx="1584360" cy="288720"/>
          </a:xfrm>
          <a:prstGeom prst="flowChartExtract">
            <a:avLst/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0800000">
            <a:off x="2584080" y="3739680"/>
            <a:ext cx="1584360" cy="289080"/>
          </a:xfrm>
          <a:prstGeom prst="flowChartExtract">
            <a:avLst/>
          </a:prstGeom>
          <a:gradFill rotWithShape="0">
            <a:gsLst>
              <a:gs pos="0">
                <a:srgbClr val="3366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325960" y="377352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99"/>
                </a:solidFill>
                <a:latin typeface="FreesiaUPC"/>
                <a:cs typeface="FreesiaUPC"/>
              </a:rPr>
              <a:t>เปรียบเทีย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933480" y="868320"/>
            <a:ext cx="72388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99"/>
                </a:solidFill>
                <a:latin typeface="FreesiaUPC"/>
                <a:cs typeface="FreesiaUPC"/>
              </a:rPr>
              <a:t>วิธีการวัดสมรรถน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12_SignB_N"/>
          <p:cNvPicPr/>
          <p:nvPr/>
        </p:nvPicPr>
        <p:blipFill>
          <a:blip r:embed="rId1"/>
          <a:stretch/>
        </p:blipFill>
        <p:spPr>
          <a:xfrm>
            <a:off x="4683240" y="3746520"/>
            <a:ext cx="57456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5"/>
          <p:cNvSpPr/>
          <p:nvPr/>
        </p:nvSpPr>
        <p:spPr>
          <a:xfrm>
            <a:off x="34920" y="6505560"/>
            <a:ext cx="3166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406080"/>
            <a:ext cx="5276880" cy="2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FreesiaUPC"/>
                <a:cs typeface="FreesiaUPC"/>
              </a:rPr>
              <a:t>ตัวอย่าง </a:t>
            </a:r>
            <a:r>
              <a:rPr b="1" lang="th-TH" sz="4400" spc="-1" strike="noStrike">
                <a:solidFill>
                  <a:srgbClr val="000000"/>
                </a:solidFill>
                <a:latin typeface="FreesiaUPC"/>
                <a:ea typeface="FreesiaUPC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20" y="1143000"/>
          <a:ext cx="9123480" cy="5646600"/>
        </p:xfrm>
        <a:graphic>
          <a:graphicData uri="http://schemas.openxmlformats.org/drawingml/2006/table">
            <a:tbl>
              <a:tblPr/>
              <a:tblGrid>
                <a:gridCol w="2586240"/>
                <a:gridCol w="1307880"/>
                <a:gridCol w="1306800"/>
                <a:gridCol w="1307880"/>
                <a:gridCol w="1306440"/>
                <a:gridCol w="1308240"/>
              </a:tblGrid>
              <a:tr h="520560">
                <a:tc rowSpan="2"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สมรรถน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 gridSpan="5"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ระดั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ทรงคุณวุฒ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เชี่ยวชา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ชำนาญการพิเศ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ชำนาญ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ปฏิบัติ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9471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การมุ่งผลสัมฤทธิ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บริการที่ด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737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การสั่งสมความเชี่ยวชาญในงานอาชี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8003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การยึดมั่นในความถูกต้องชอบธรรม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จริยธรรม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737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การทำงานเป็นทีม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ความร่วมแรงร่วมใจ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3" name="Rectangle 56"/>
          <p:cNvSpPr/>
          <p:nvPr/>
        </p:nvSpPr>
        <p:spPr>
          <a:xfrm>
            <a:off x="4373640" y="142920"/>
            <a:ext cx="3456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Angsana New"/>
              </a:rPr>
              <a:t>กลุ่มวิชาการ </a:t>
            </a:r>
            <a:r>
              <a:rPr b="1" lang="en-US" sz="3200" spc="-1" strike="noStrike">
                <a:solidFill>
                  <a:srgbClr val="0000ff"/>
                </a:solidFill>
                <a:latin typeface="Angsana New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2920" y="571680"/>
          <a:ext cx="8785080" cy="600372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28008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Estrangelo Edessa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Estrangelo Edessa"/>
                          <a:ea typeface="FreesiaUPC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Estrangelo Edessa"/>
                        </a:rPr>
                        <a:t>: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Estrangelo Edessa"/>
                          <a:cs typeface="FreesiaUPC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6052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สามารถให้บริการที่ผู้รับบริการต้องการได้ด้วยความเต็มใ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การบริการที่เป็นมิตร สุภา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ข้อมูล ข่าวสาร ที่ถูกต้อง ชัดเจน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จ้งให้ผู้รับบริการทราบความคืบหน้าในการดำเนินเรื่อง หรือขั้นตอนงานต่างๆ ที่ให้บริการอยู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ประสานงานภายในหน่วยงาน และกับหน่วยงานอื่นที่เกี่ยวข้อง เพื่อให้ผู้รับบริการได้รับบริการที่ต่อเนื่องและรวดเร็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1716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1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ละช่วยแก้ปัญหา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รับเป็นธุระ ช่วยแก้ปัญหาหรือหาแนวทางแก้ไขปัญหาที่เกิดขึ้นแก่ผู้รับบริการอย่างรวดเร็ว ไม่บ่ายเบี่ยง ไม่แก้ตัว หรือปัดภาร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ดูแลให้ผู้รับบริการได้รับความพึงพอใจ และนำข้อขัดข้องใดๆ ในการให้บริการ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ถ้ามี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)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ไปพัฒนาการให้บริการได้ดียิ่งขึ้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146052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2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ละให้บริการที่เกินความคาดหวัง แม้ต้องใช้เวลาหรือความพยายามอย่างมา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เวลาแก่ผู้รับบริการเป็นพิเศษ เพื่อช่วยแก้ปัญหา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ข้อมู ล ข่าวสาร ที่เกี่ยวข้องกับงานที่กำลังให้บริการอยู่ ซึ่งเป็นประโยชน์แก่ผู้รับบริการ แม้ว่าผู้รับบริการจะไม่ได้ถามถึง หรือไม่ทราบมาก่อ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นำเสนอวิธีการในการให้บริการที่ผู้รับบริการจะได้รับประโยชน์สูงสุ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6052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3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ละเข้าใจและให้บริการที่ตรงตามความต้องการที่แท้จริงของผู้รับบริการได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เข้าใจ หรือพยายามทำความเข้าใจด้วยวิธีการต่างๆ เพื่อให้บริการได้ตรงตามความต้องการที่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คำแนะนำที่เป็นประโยชน์แก่ผู้รับบริการ เพื่อตอบสนองความจำเป็นหรือความต้องการที่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46052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4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ละให้บริการที่เป็นประโยชน์อย่างแท้จริง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คิดถึงผลประโยชน์ของผู้รับบริการในระยะยาว และพร้อมที่จะเปลี่ยนวิธีหรือขั้นตอนการให้บริการ เพื่อประโยชน์สูงสุด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เป็นที่ปรึกษาที่มีส่วนช่วยในการตัดสินใจที่ผู้รับบริการไว้วางใ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สามารถให้ความเห็นที่แตกต่างจากวิธีการ หรือขั้นตอนที่ผู้รับบริการต้องการให้สอดคล้องกับความจำเป็น ปัญหา โอกาส เพื่อเป็นประโยชน์อ่าง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2"/>
          <p:cNvSpPr/>
          <p:nvPr/>
        </p:nvSpPr>
        <p:spPr>
          <a:xfrm>
            <a:off x="71280" y="142920"/>
            <a:ext cx="892980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FreesiaUPC"/>
                <a:ea typeface="FreesiaUPC"/>
              </a:rPr>
              <a:t>2. </a:t>
            </a:r>
            <a:r>
              <a:rPr b="1" lang="th-TH" sz="2000" spc="-1" strike="noStrike">
                <a:solidFill>
                  <a:srgbClr val="ffffff"/>
                </a:solidFill>
                <a:latin typeface="FreesiaUPC"/>
                <a:cs typeface="FreesiaUPC"/>
              </a:rPr>
              <a:t>บริการที่ดี</a:t>
            </a:r>
            <a:r>
              <a:rPr b="1" lang="en-US" sz="2000" spc="-1" strike="noStrike">
                <a:solidFill>
                  <a:srgbClr val="ffffff"/>
                </a:solidFill>
                <a:latin typeface="FreesiaUPC"/>
                <a:ea typeface="FreesiaUP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reesiaUPC"/>
                <a:ea typeface="FreesiaUPC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FreesiaUPC"/>
                <a:cs typeface="FreesiaUPC"/>
              </a:rPr>
              <a:t>ความตั้งใจและความพยายามในการให้บริการต่อประชาชน ข้าราชการหรือหน่วยงานอื่นๆ ที่เกี่ยวข้อ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Tahoma"/>
              </a:rPr>
              <a:t>การประเมินสมรรถน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7030a0"/>
                </a:solidFill>
                <a:latin typeface="Tahoma"/>
                <a:cs typeface="Tahoma"/>
              </a:rPr>
              <a:t>ประเมินเพื่อการพัฒนาบุลาก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7030a0"/>
                </a:solidFill>
                <a:latin typeface="Tahoma"/>
                <a:cs typeface="Tahoma"/>
              </a:rPr>
              <a:t>ประเมินเพื่อประกอบการเลื่อนขั้นเงินเดื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2286000" y="1143000"/>
            <a:ext cx="5638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ahoma"/>
              </a:rPr>
              <a:t>1.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Tahoma"/>
              </a:rPr>
              <a:t>การประเมินสมรรถนะเพื่อการพัฒนาบุคลาก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228600" y="228600"/>
            <a:ext cx="89154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Tahoma"/>
              </a:rPr>
              <a:t>เอกสารประกอบการประเม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4.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รายละเอียดพฤติกรรมบ่งชี้ในแต่ละระดับสมรรถ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228600" y="228600"/>
            <a:ext cx="89154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Tahoma"/>
              </a:rPr>
              <a:t>ขั้นตอนการประเม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บุคลากรศึกษารายการสมรรถนะหลักและระดับสมรรถนะที่คาดหวัง  ตามประเภทและชั้นงานของตนเอง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1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2.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ศึกษารายละเอียดพฤติกรรมบ่งชี้ในแต่ละระดับสมรรถ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3.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ทำการประเมินสมรรถนะตนเอง  ใน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4.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ผู้บังคับบัญชา  ดำเนินการประเมิน  โด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4.1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ศึกษารายการ  ระดับสมรรถ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4.2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สังเกตพฤติกรรม วิธีการทำงานของผู้ใต้บังคับบัญช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228600" y="228600"/>
            <a:ext cx="8915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3.3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เลือกระดับสมรรถนะที่ใกล้เคียงกับผู้ถูกประเมิ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cs typeface="Tahoma"/>
              </a:rPr>
              <a:t>เน้น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เป็นการประเมินเพื่อการพัฒน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3.4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นำผลการประเมินมาหารือร่วมกัน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และสรุป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ahoma"/>
              </a:rPr>
              <a:t>GA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ส่วนขาด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บุคลากรนำส่วนขาด ไปทำแผนพัฒนารายบุคค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ใน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5.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เสนอแผนให้ผู้บังคับบัญชาชั้นต้นรับรอง และแนบในส่วนที่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ของแบบสรุปการประเมินผลการปฏิบัติราชการ เพื่อเสนอผู้บริหารระดับสูงขึ้นไปอนุมัติแผ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under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762120" y="60948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ahoma"/>
              </a:rPr>
              <a:t>2.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Tahoma"/>
              </a:rPr>
              <a:t>การประเมินสมรรถน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Tahoma"/>
              </a:rPr>
              <a:t>เพื่อการเลื่อนขั้นเงินเดือ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52480" y="457200"/>
            <a:ext cx="5715000" cy="76212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99"/>
                </a:solidFill>
                <a:latin typeface="Arial"/>
              </a:rPr>
              <a:t>การแบ่งประเภทสมรรถน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2992320"/>
            <a:ext cx="3505320" cy="990720"/>
          </a:xfrm>
          <a:prstGeom prst="rect">
            <a:avLst/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99"/>
                </a:solidFill>
                <a:latin typeface="Arial"/>
              </a:rPr>
              <a:t>สมรรถนะที่จำเป็นสำหรับการปฏิบัติงานในตำแหน่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800600" y="1468440"/>
            <a:ext cx="3962520" cy="1371600"/>
          </a:xfrm>
          <a:prstGeom prst="rect">
            <a:avLst/>
          </a:prstGeom>
          <a:solidFill>
            <a:srgbClr val="99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สมรรถนะหลัก มี 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5 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การมุ่งผลสัมฤทธิ์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บริการที่ดี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การสั่งสมความเชี่ยวชาญในงานอาชีพ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การยึดมั่นในความถูกต้องชอบธรรมและจริยธรรม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การทำงานเป็นทีม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11"/>
          <p:cNvCxnSpPr>
            <a:stCxn id="55" idx="3"/>
            <a:endCxn id="56" idx="1"/>
          </p:cNvCxnSpPr>
          <p:nvPr/>
        </p:nvCxnSpPr>
        <p:spPr>
          <a:xfrm flipV="1">
            <a:off x="4114440" y="2153880"/>
            <a:ext cx="686520" cy="13341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8" name="Rectangle 16"/>
          <p:cNvSpPr/>
          <p:nvPr/>
        </p:nvSpPr>
        <p:spPr>
          <a:xfrm>
            <a:off x="4800600" y="3068640"/>
            <a:ext cx="3962520" cy="1219320"/>
          </a:xfrm>
          <a:prstGeom prst="rect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ngsana New"/>
              </a:rPr>
              <a:t>สมรรถนะทางการบริหาร มี </a:t>
            </a:r>
            <a:r>
              <a:rPr b="1" lang="en-US" sz="2400" spc="-1" strike="noStrike">
                <a:solidFill>
                  <a:srgbClr val="333399"/>
                </a:solidFill>
                <a:latin typeface="Angsana New"/>
              </a:rPr>
              <a:t>3</a:t>
            </a:r>
            <a:r>
              <a:rPr b="1" lang="th-TH" sz="24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th-TH" sz="2400" spc="-1" strike="noStrike">
                <a:solidFill>
                  <a:srgbClr val="333399"/>
                </a:solidFill>
                <a:latin typeface="Angsana New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( 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การคิดเชิงระบบอย่างสร้างสรรค์</a:t>
            </a:r>
            <a:r>
              <a:rPr b="1" lang="en-US" sz="18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ngsana New"/>
              </a:rPr>
              <a:t>,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การมีจิตสำนึกในการดำรงชีวิตโดยยึดหลักความพอเพียง</a:t>
            </a:r>
            <a:r>
              <a:rPr b="1" lang="en-US" sz="18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ngsana New"/>
              </a:rPr>
              <a:t>,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การสร้างเครือข่ายกัลยาณมิตรในการบริหารงาน 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4800600" y="4545000"/>
            <a:ext cx="3962520" cy="990720"/>
          </a:xfrm>
          <a:prstGeom prst="rect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สมรรถนะเฉพาะตามลักษณะงานที่ปฏิบัต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ให้ส่วนราชการกำหนดอย่างน้อย 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19"/>
          <p:cNvCxnSpPr>
            <a:stCxn id="55" idx="3"/>
            <a:endCxn id="58" idx="1"/>
          </p:cNvCxnSpPr>
          <p:nvPr/>
        </p:nvCxnSpPr>
        <p:spPr>
          <a:xfrm>
            <a:off x="4114440" y="3487320"/>
            <a:ext cx="686520" cy="1911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1" name="Straight Arrow Connector 21"/>
          <p:cNvCxnSpPr>
            <a:stCxn id="55" idx="3"/>
            <a:endCxn id="59" idx="1"/>
          </p:cNvCxnSpPr>
          <p:nvPr/>
        </p:nvCxnSpPr>
        <p:spPr>
          <a:xfrm>
            <a:off x="4127040" y="3487320"/>
            <a:ext cx="661320" cy="15534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62" name="Text Box 12"/>
          <p:cNvSpPr/>
          <p:nvPr/>
        </p:nvSpPr>
        <p:spPr>
          <a:xfrm>
            <a:off x="533520" y="5029200"/>
            <a:ext cx="76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447920" y="4710240"/>
            <a:ext cx="2895480" cy="1373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ระเมินเพื่อการพัฒนาค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ลื่อนเงินเดื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447920" y="6033960"/>
            <a:ext cx="4495680" cy="947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ระเมินเพื่อการพัฒนางานให้มีประสิทธิ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-235080" y="520236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"/>
              </a:rPr>
              <a:t>หมายเหต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1066680" y="5202000"/>
            <a:ext cx="30492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1066680" y="5583240"/>
            <a:ext cx="304920" cy="5889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under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228600" y="3049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เอกสารประกอบการประเม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รายละเอียดพฤติกรรมที่พึงประสงค์ของสมรรถนะหลักทั้ง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5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ด้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แบบประเมินให้คะแน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3.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เกณฑ์การวัดสมรรถน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324612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ผู้ประเมินจะพิจารณาจากสมรรถนะทีละตั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เทียบกับระดับสมรรถนะที่กำหนดว่าต้องมี ประเมินพฤติกรรมที่จะใช้เป็นฐานในการประเมินได้แก่ พฤติกรรมทุกรายการที่ปรากฏในพจนานุกรมสมรรถนะจนถึงระดับสมรรถนะนั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ทำการนับรายการพฤติกรรมที่ผู้ถูกประเมินทำได้ครบถ้วนตามที่ระบุไว้ แล้วคำนวณร้อยละของพฤติกรรมที่ทำได้ถึงระดับที่กำหนด แล้วประเมินให้คะแนนตามที่กำหน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FreesiaUPC"/>
                <a:cs typeface="FreesiaUPC"/>
              </a:rPr>
              <a:t>เกณฑ์การวัดสมรรถนะ </a:t>
            </a:r>
            <a:r>
              <a:rPr b="1" lang="en-US" sz="4400" spc="-1" strike="noStrike">
                <a:solidFill>
                  <a:srgbClr val="000000"/>
                </a:solidFill>
                <a:latin typeface="FreesiaUPC"/>
                <a:ea typeface="Frees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FreesiaUPC"/>
                <a:cs typeface="FreesiaUPC"/>
              </a:rPr>
              <a:t>วัดจากร้อยละของพฤติกรรมที่ทำได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FB15-FBC9-45D5-86E9-078C242AE9D6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371600"/>
          <a:ext cx="8715240" cy="16653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2760"/>
              </a:tblGrid>
              <a:tr h="7351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๑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๒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๓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๔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๕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024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น้อยกว่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๖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๖๐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eesiaUPC"/>
                          <a:ea typeface="FreesiaUPC"/>
                        </a:rPr>
                        <a:t>–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๗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๗๑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eesiaUPC"/>
                          <a:ea typeface="FreesiaUPC"/>
                        </a:rPr>
                        <a:t>–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๘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๘๑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eesiaUPC"/>
                          <a:ea typeface="FreesiaUPC"/>
                        </a:rPr>
                        <a:t>–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๙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๙๑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eesiaUPC"/>
                          <a:ea typeface="FreesiaUPC"/>
                        </a:rPr>
                        <a:t>–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๑๐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ontent Placeholder 2"/>
          <p:cNvSpPr/>
          <p:nvPr/>
        </p:nvSpPr>
        <p:spPr>
          <a:xfrm>
            <a:off x="142920" y="390600"/>
            <a:ext cx="9001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ประเมินสมรรถนะโดย </a:t>
            </a:r>
            <a:r>
              <a:rPr b="1" lang="en-US" sz="2100" spc="-1" strike="noStrike">
                <a:solidFill>
                  <a:srgbClr val="000000"/>
                </a:solidFill>
                <a:latin typeface="FreesiaUPC"/>
                <a:ea typeface="FreesiaUPC"/>
              </a:rPr>
              <a:t>Bar Scale </a:t>
            </a:r>
            <a:r>
              <a:rPr b="1" lang="th-TH" sz="2100" spc="-1" strike="noStrike">
                <a:solidFill>
                  <a:srgbClr val="000000"/>
                </a:solidFill>
                <a:latin typeface="FreesiaUPC"/>
                <a:cs typeface="FreesiaUPC"/>
              </a:rPr>
              <a:t>จะใช้พฤติกรรมสมรรถนะในพจนานุกรม เป็น </a:t>
            </a:r>
            <a:r>
              <a:rPr b="1" lang="en-US" sz="2100" spc="-1" strike="noStrike">
                <a:solidFill>
                  <a:srgbClr val="000000"/>
                </a:solidFill>
                <a:latin typeface="FreesiaUPC"/>
                <a:ea typeface="FreesiaUPC"/>
              </a:rPr>
              <a:t>Scale </a:t>
            </a:r>
            <a:r>
              <a:rPr b="1" lang="th-TH" sz="2100" spc="-1" strike="noStrike">
                <a:solidFill>
                  <a:srgbClr val="000000"/>
                </a:solidFill>
                <a:latin typeface="FreesiaUPC"/>
                <a:cs typeface="FreesiaUPC"/>
              </a:rPr>
              <a:t>ในการเทียบประเมิ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262673"/>
                </a:solidFill>
                <a:latin typeface="FreesiaUPC"/>
                <a:cs typeface="FreesiaUPC"/>
              </a:rPr>
              <a:t>การประเมินสมรรถนะด้วย </a:t>
            </a:r>
            <a:r>
              <a:rPr b="1" lang="en-US" sz="2800" spc="-1" strike="noStrike">
                <a:solidFill>
                  <a:srgbClr val="262673"/>
                </a:solidFill>
                <a:latin typeface="FreesiaUPC"/>
                <a:ea typeface="FreesiaUPC"/>
              </a:rPr>
              <a:t>Bar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-27000" y="3000240"/>
            <a:ext cx="792000" cy="785880"/>
          </a:xfrm>
          <a:prstGeom prst="ellipse">
            <a:avLst/>
          </a:prstGeom>
          <a:solidFill>
            <a:srgbClr val="bbe0e3"/>
          </a:solidFill>
          <a:ln w="10080">
            <a:solidFill>
              <a:srgbClr val="bbe0e3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6"/>
          <p:cNvCxnSpPr/>
          <p:nvPr/>
        </p:nvCxnSpPr>
        <p:spPr>
          <a:xfrm flipV="1">
            <a:off x="249120" y="1356840"/>
            <a:ext cx="540720" cy="162000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158" name="Straight Arrow Connector 7"/>
          <p:cNvCxnSpPr/>
          <p:nvPr/>
        </p:nvCxnSpPr>
        <p:spPr>
          <a:xfrm flipV="1">
            <a:off x="428760" y="2357280"/>
            <a:ext cx="396000" cy="64836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357120" y="3854520"/>
            <a:ext cx="324720" cy="111672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172080" y="3767760"/>
            <a:ext cx="625320" cy="238968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graphicFrame>
        <p:nvGraphicFramePr>
          <p:cNvPr id="161" name=""/>
          <p:cNvGraphicFramePr/>
          <p:nvPr/>
        </p:nvGraphicFramePr>
        <p:xfrm>
          <a:off x="817560" y="782640"/>
          <a:ext cx="8326440" cy="6075360"/>
        </p:xfrm>
        <a:graphic>
          <a:graphicData uri="http://schemas.openxmlformats.org/drawingml/2006/table">
            <a:tbl>
              <a:tblPr/>
              <a:tblGrid>
                <a:gridCol w="8326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บริการที่ดี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FreesiaUPC"/>
                          <a:ea typeface="FreesiaUPC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eesiaUPC"/>
                          <a:ea typeface="FreesiaUPC"/>
                        </a:rPr>
                        <a:t>Service Mind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FreesiaUPC"/>
                          <a:ea typeface="Free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0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1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สามารถให้บริการที่ผู้รับบริการต้องการได้ด้วยความเต็มใ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บริการที่เป็นมิตร สุภา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ข้อมูล ข่าวสาร ที่ถูกต้อง ชัดเจน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จ้งให้ผู้รับบริการทราบความคืบหน้าในการดำเนินเรื่อง หรือขั้นตอนต่างๆ ที่ให้บริการอยู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ประสานงานภายในหน่วยงาน และกับหน่วยงานอื่นที่เกี่ยวข้อง เพื่อให้ผู้รับบริการได้รับบริการที่ต่อเนื่องและรวดเร็ว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2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1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ละช่วยแก้ปัญหา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ับเป็นธุระ ช่วยแก้ปัญหาหรือหาแนวทางแก้ไขปัญหาที่เกิดขึ้นแก่ผู้รับบริการอย่างรวดเร็ว ไม่บ่ายเบี่ยง ไม่แก้ตัว หรือปัดภาร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ดูแลให้ผู้รับบริการได้รับความพึงพอใจ และนำข้อขัดข้องใดๆ ในการให้บริการ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ถ้ามี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)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ไปพัฒนาการให้บริการให้ดียิ่งขึ้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3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สดงสมรรถนะรับ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2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ละให้บริการที่เกินความคาดหวัง แม้ต้องใช้เวลาหรือความพยายามอย่างมา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เวลาแก่ผู้รับบริการเป็นพิเศษ เพื่อช่วยแก้ปัญหา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ข้อมูล ข่าวสาร ที่เกี่ยวข้องกับงานที่กำลังให้บริการอยู่ ซึ่งเป็นประโยชน์แก่ผู้รับบริการ แม้ว่าผู้รับบริการจะไม่ได้ถามถึง หรือไม่ทราบมาก่อ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นำเสนอวิธีการในการให้บริการที่ผู้รับบริการจะได้รับประโยชน์สูงสุ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4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3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ละเข้าใจและให้บริการที่ตรงตามความต้องการที่แท้จริงของผู้รับบริการได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เข้าใจ หรือพยายามทำความเข้าใจด้วยวิธีการต่างๆ เพื่อให้บริการได้ตรงตามความต้องการที่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คำแนะนำที่เป็นประโยชน์แก่ผู้รับบริการ เพื่อตอบสนองความจำเป็นหรือความต้องการ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5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4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ละให้บริการที่เป็นประโยชน์อย่างแท้จริง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คิดถึงผลประโยชน์ของผู้รับบริการในระยะยาว และพร้อมที่จะเปลี่ยนวิธีหรือขั้นตอนการให้บริการ เพื่อประโยชน์สูงสุด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เป็นที่ปรึกษาที่มีส่วนช่วยในการตัดสินใจที่ผู้รับบริการไว้วางใ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สามารถให้ความเห็นที่แตกต่างจากวิธีการ หรือขั้นตอนที่ผู้รับบริการต้องการให้สอดคล้องกับความจำเป็น ปัญหา โอกาส เพื่อเป็นประโยชน์อย่าง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cxnSp>
        <p:nvCxnSpPr>
          <p:cNvPr id="162" name="Straight Arrow Connector 18"/>
          <p:cNvCxnSpPr/>
          <p:nvPr/>
        </p:nvCxnSpPr>
        <p:spPr>
          <a:xfrm>
            <a:off x="357120" y="3751200"/>
            <a:ext cx="432720" cy="32472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163" name="Straight Arrow Connector 9"/>
          <p:cNvCxnSpPr/>
          <p:nvPr/>
        </p:nvCxnSpPr>
        <p:spPr>
          <a:xfrm>
            <a:off x="571320" y="3285720"/>
            <a:ext cx="361080" cy="108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Tahoma"/>
              </a:rPr>
              <a:t>ขั้นตอน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ahoma"/>
              </a:rPr>
              <a:t>/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Tahoma"/>
              </a:rPr>
              <a:t>ตัวอย่าง </a:t>
            </a:r>
            <a:br>
              <a:rPr sz="4000"/>
            </a:b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Tahoma"/>
              </a:rPr>
              <a:t>เพื่อนำสู่การปฏิบัต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หนังสือที่อด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0027.001/06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ลงวันที่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มกราคม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เรื่อง  หลักเกณฑ์และวิธีการประเมินผลการปฏิบัติราชการของข้าราชการพลเรือนสามัญในสังกัดสำนักงานสาธารณสุขจังหวัดอุดรธาน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ตามประกาศสำนักงานสาธารณสุขจังหวัดอุดรธานี  ลงวันที่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ธันวาคม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1316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รุปขั้นตอนการประเมินสมรรถนะเพื่อประกอบการเลื่อนเงินเดือ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ผู้บังคับบัญชาศึกษาระดับสมรรถนะและพฤติกรรมบ่งชี้ของแต่ละสมรรถน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th-TH" sz="3600" spc="-1" strike="noStrike">
                <a:solidFill>
                  <a:srgbClr val="009999"/>
                </a:solidFill>
                <a:latin typeface="Arial"/>
              </a:rPr>
              <a:t>สังเกต</a:t>
            </a:r>
            <a:r>
              <a:rPr b="0" lang="th-TH" sz="3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th-TH" sz="3600" spc="-1" strike="noStrike">
                <a:solidFill>
                  <a:srgbClr val="009999"/>
                </a:solidFill>
                <a:latin typeface="Arial"/>
              </a:rPr>
              <a:t>ทบทวน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พฤติกรรม และวิธีการทำงานของผู้ใต้บังคับบัญชา  นับรายการพฤติกรรมที่ทำได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คำนวณร้อยละของพฤติกรรมที่ทำได้เปรียบเทียบกับพฤติกรรมที่คาดหวั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09480" y="380880"/>
            <a:ext cx="822960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ทำการให้คะแนนพฤติกรรมตามเกณฑ์ที่กำหนด ในแบบ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</a:rPr>
              <a:t>ประเมินสมรรถนะรายบุคคล   เพื่อพิจารณาประกอบการเลื่อนขั้นเงินเดือน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โดยแยกเป็นรายบุคคล เพื่อให้ผู้บริหารใช้เป็นข้อมูลในการติดตามประเมินพฤติกรรมของผู้ใต้บังคับบัญชาในแต่ละรอบการประเม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นำคะแนนพฤติกรรมจาก 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</a:rPr>
              <a:t>แบบประเมินสมรรถนะรายบุคคลฯ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รุปลงใน 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แบบประเมินพฤติกรรมการปฏิบัติราชการหรือสมรรถนะ เพื่อพิจารณาให้ค่าน้ำหนัก 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ร้อยล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นำคะแนนพฤติกรรมไปสรุปรวมกับคะแนนประเมินผลสัมฤทธิ์ของงานใน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แบบสรุปการประเมินผลการปฏิบัติราช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สรุปผลการประเม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0" y="609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76212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81952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701028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868680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480060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0" y="1981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0" y="2819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0" y="3733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0" y="46483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73160" y="1366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17316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44720" y="3009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116280" y="3924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116280" y="4933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838080" y="1371600"/>
            <a:ext cx="10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การมุ่งผลสัมฤทธิ์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 77.8                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838080" y="2057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บริการที่ดี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 83.3                 4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762120" y="2743200"/>
            <a:ext cx="87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การสั่งส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ความเชี่ยวชาญ   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 80.0                3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762120" y="3733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คุณธ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จริยธรรม        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75.0                 3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762120" y="472932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การทำ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เป็นทีม  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66.7                 2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5"/>
          <p:cNvSpPr/>
          <p:nvPr/>
        </p:nvSpPr>
        <p:spPr>
          <a:xfrm>
            <a:off x="28440" y="63828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"/>
              </a:rPr>
              <a:t>ลำด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968760" y="65232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2862360" y="66204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3300"/>
                </a:solidFill>
                <a:latin typeface="Arial"/>
              </a:rPr>
              <a:t>สมรรถนะที่คาดหวั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4862520" y="676440"/>
            <a:ext cx="21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3300"/>
                </a:solidFill>
                <a:latin typeface="Arial"/>
              </a:rPr>
              <a:t>ร้อยละของพฤติกรรมที่ทำได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7010280" y="6858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3300"/>
                </a:solidFill>
                <a:latin typeface="Arial"/>
              </a:rPr>
              <a:t>คะแนนพฤติก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2"/>
          <p:cNvSpPr/>
          <p:nvPr/>
        </p:nvSpPr>
        <p:spPr>
          <a:xfrm>
            <a:off x="-1007280" y="-31320"/>
            <a:ext cx="1126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แบบประเมินสมรรถนะรายบุคคล   เพื่อพิจารณาประกอบการเลื่อนขั้นเงินเดือน   รอบที่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ชื่อ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นางจรรยา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เรียบร้อย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 ตำแหน่ง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นว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สธ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ชำนาญการ  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สถานที่ปฏิบัติงาน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กลุ่มงานพัฒนาฯ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สส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อุดรธานี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3"/>
          <p:cNvSpPr/>
          <p:nvPr/>
        </p:nvSpPr>
        <p:spPr>
          <a:xfrm flipV="1">
            <a:off x="0" y="5681520"/>
            <a:ext cx="8686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2962440" y="5754600"/>
            <a:ext cx="20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ตามที่ 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กำหน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562720" y="571968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นำมาจากมาตรว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>
            <a:off x="0" y="1143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250920" y="0"/>
            <a:ext cx="8893080" cy="6518160"/>
            <a:chOff x="250920" y="0"/>
            <a:chExt cx="8893080" cy="6518160"/>
          </a:xfrm>
        </p:grpSpPr>
        <p:pic>
          <p:nvPicPr>
            <p:cNvPr id="200" name="Picture 3" descr="ScannedImage-2"/>
            <p:cNvPicPr/>
            <p:nvPr/>
          </p:nvPicPr>
          <p:blipFill>
            <a:blip r:embed="rId1">
              <a:lum contrast="6000"/>
            </a:blip>
            <a:srcRect l="8264" t="9537" r="5903" b="5268"/>
            <a:stretch/>
          </p:blipFill>
          <p:spPr>
            <a:xfrm>
              <a:off x="250920" y="91800"/>
              <a:ext cx="8893080" cy="64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4"/>
            <p:cNvSpPr/>
            <p:nvPr/>
          </p:nvSpPr>
          <p:spPr>
            <a:xfrm>
              <a:off x="1916280" y="289692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1906560" y="329724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6"/>
            <p:cNvSpPr/>
            <p:nvPr/>
          </p:nvSpPr>
          <p:spPr>
            <a:xfrm>
              <a:off x="1906560" y="370980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1906560" y="43099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1906560" y="507204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2627280" y="28861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"/>
            <p:cNvSpPr/>
            <p:nvPr/>
          </p:nvSpPr>
          <p:spPr>
            <a:xfrm>
              <a:off x="2627280" y="33019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2617920" y="37224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3202200" y="370980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995640" y="370980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0.</a:t>
              </a:r>
              <a:r>
                <a:rPr b="1" lang="en-US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202200" y="28828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4067280" y="2854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0.</a:t>
              </a: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202200" y="3287520"/>
              <a:ext cx="71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2627280" y="43099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3994200" y="43113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0.</a:t>
              </a:r>
              <a:r>
                <a:rPr b="1" lang="en-US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3130560" y="4309920"/>
              <a:ext cx="7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3994200" y="327816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0</a:t>
              </a:r>
              <a:r>
                <a:rPr b="1" lang="th-TH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.</a:t>
              </a:r>
              <a:r>
                <a:rPr b="1" lang="en-US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2627280" y="50781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2"/>
            <p:cNvSpPr/>
            <p:nvPr/>
          </p:nvSpPr>
          <p:spPr>
            <a:xfrm>
              <a:off x="3130560" y="50781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3995640" y="50781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0.</a:t>
              </a:r>
              <a:r>
                <a:rPr b="1" lang="en-US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3994200" y="5476680"/>
              <a:ext cx="719280" cy="3373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3</a:t>
              </a:r>
              <a:r>
                <a:rPr b="1" lang="th-TH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.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5"/>
            <p:cNvSpPr/>
            <p:nvPr/>
          </p:nvSpPr>
          <p:spPr>
            <a:xfrm>
              <a:off x="285840" y="109440"/>
              <a:ext cx="4789440" cy="76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1785" dir="2700000" blurRad="0" rotWithShape="0">
                <a:srgbClr val="cc66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ff3300"/>
                  </a:solidFill>
                  <a:latin typeface="Tahoma"/>
                  <a:cs typeface="CordiaUPC"/>
                </a:rPr>
                <a:t>แบบประเมินพฤติกรรมการปฏิบัติราชการหรือสมรรถน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6"/>
            <p:cNvSpPr/>
            <p:nvPr/>
          </p:nvSpPr>
          <p:spPr>
            <a:xfrm>
              <a:off x="4689360" y="5921280"/>
              <a:ext cx="719280" cy="3373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7"/>
            <p:cNvSpPr/>
            <p:nvPr/>
          </p:nvSpPr>
          <p:spPr>
            <a:xfrm>
              <a:off x="3138480" y="5889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33cc"/>
                  </a:solidFill>
                  <a:latin typeface="Tahoma"/>
                  <a:cs typeface="Tahoma"/>
                </a:rPr>
                <a:t>จรรยา  เรียบร้อ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3456000" y="10396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33cc"/>
                  </a:solidFill>
                  <a:latin typeface="Tahoma"/>
                  <a:cs typeface="Tahoma"/>
                </a:rPr>
                <a:t>ใจดี  มีคุณธรร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9"/>
            <p:cNvSpPr/>
            <p:nvPr/>
          </p:nvSpPr>
          <p:spPr>
            <a:xfrm>
              <a:off x="1906560" y="901440"/>
              <a:ext cx="5763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0"/>
            <p:cNvSpPr/>
            <p:nvPr/>
          </p:nvSpPr>
          <p:spPr>
            <a:xfrm>
              <a:off x="2338560" y="1334880"/>
              <a:ext cx="2887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1"/>
            <p:cNvSpPr/>
            <p:nvPr/>
          </p:nvSpPr>
          <p:spPr>
            <a:xfrm>
              <a:off x="2986200" y="1334880"/>
              <a:ext cx="5047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6350040" y="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th-TH" sz="3600" spc="-1" strike="noStrike">
                  <a:solidFill>
                    <a:srgbClr val="0000cc"/>
                  </a:solidFill>
                  <a:latin typeface="Wingdings 2"/>
                  <a:ea typeface="Wingdings 2"/>
                </a:rPr>
                <a:t>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44000" cy="5714640"/>
            <a:chOff x="0" y="0"/>
            <a:chExt cx="9144000" cy="5714640"/>
          </a:xfrm>
        </p:grpSpPr>
        <p:pic>
          <p:nvPicPr>
            <p:cNvPr id="231" name="Picture 3" descr="แบบสรุป1"/>
            <p:cNvPicPr/>
            <p:nvPr/>
          </p:nvPicPr>
          <p:blipFill>
            <a:blip r:embed="rId1">
              <a:lum contrast="12000"/>
            </a:blip>
            <a:srcRect l="8540" t="38015" r="6950" b="31079"/>
            <a:stretch/>
          </p:blipFill>
          <p:spPr>
            <a:xfrm>
              <a:off x="0" y="777960"/>
              <a:ext cx="9144000" cy="49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0" y="0"/>
              <a:ext cx="9144000" cy="7059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ffff99"/>
                  </a:solidFill>
                  <a:latin typeface="Tahoma"/>
                  <a:cs typeface="KodchiangUPC"/>
                </a:rPr>
                <a:t>แบบสรุปการประเมินผลการปฏิบัติราชการ </a:t>
              </a:r>
              <a:r>
                <a:rPr b="1" lang="th-TH" sz="4400" spc="-1" strike="noStrike">
                  <a:solidFill>
                    <a:srgbClr val="ffff99"/>
                  </a:solidFill>
                  <a:latin typeface="Tahoma"/>
                  <a:ea typeface="KodchiangUPC"/>
                </a:rPr>
                <a:t>(</a:t>
              </a:r>
              <a:r>
                <a:rPr b="1" lang="th-TH" sz="4400" spc="-1" strike="noStrike">
                  <a:solidFill>
                    <a:srgbClr val="ffff99"/>
                  </a:solidFill>
                  <a:latin typeface="Tahoma"/>
                  <a:cs typeface="KodchiangUPC"/>
                </a:rPr>
                <a:t>ต่อ</a:t>
              </a:r>
              <a:r>
                <a:rPr b="1" lang="th-TH" sz="4400" spc="-1" strike="noStrike">
                  <a:solidFill>
                    <a:srgbClr val="ffff99"/>
                  </a:solidFill>
                  <a:latin typeface="Tahoma"/>
                  <a:ea typeface="KodchiangUPC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5307120" y="2167200"/>
              <a:ext cx="71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7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6"/>
            <p:cNvSpPr/>
            <p:nvPr/>
          </p:nvSpPr>
          <p:spPr>
            <a:xfrm>
              <a:off x="6227640" y="216720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70%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7"/>
            <p:cNvSpPr/>
            <p:nvPr/>
          </p:nvSpPr>
          <p:spPr>
            <a:xfrm>
              <a:off x="7597800" y="218268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50.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5292720" y="262116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6227640" y="262116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30%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0"/>
            <p:cNvSpPr/>
            <p:nvPr/>
          </p:nvSpPr>
          <p:spPr>
            <a:xfrm>
              <a:off x="7597800" y="262116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18</a:t>
              </a:r>
              <a:r>
                <a:rPr b="1" lang="th-TH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.</a:t>
              </a:r>
              <a:r>
                <a:rPr b="1" lang="en-US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7597800" y="352080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68</a:t>
              </a:r>
              <a:r>
                <a:rPr b="1" lang="th-TH" sz="22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.</a:t>
              </a:r>
              <a:r>
                <a:rPr b="1" lang="en-US" sz="22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1130400" y="5573160"/>
              <a:ext cx="540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Line 13"/>
          <p:cNvSpPr/>
          <p:nvPr/>
        </p:nvSpPr>
        <p:spPr>
          <a:xfrm flipV="1">
            <a:off x="5410080" y="4648320"/>
            <a:ext cx="457200" cy="380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1214280" y="5081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90-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2724120" y="508644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81-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838680" y="5091120"/>
            <a:ext cx="81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71-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376960" y="5091120"/>
            <a:ext cx="81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61-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7010280" y="508644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&lt;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Bug009"/>
          <p:cNvPicPr/>
          <p:nvPr/>
        </p:nvPicPr>
        <p:blipFill>
          <a:blip r:embed="rId2"/>
          <a:stretch/>
        </p:blipFill>
        <p:spPr>
          <a:xfrm>
            <a:off x="3348000" y="1484280"/>
            <a:ext cx="2971800" cy="885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82440" y="631188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822240" y="2019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50240" y="111240"/>
            <a:ext cx="4662720" cy="764280"/>
          </a:xfrm>
          <a:prstGeom prst="rect">
            <a:avLst/>
          </a:prstGeom>
          <a:solidFill>
            <a:srgbClr val="ffcc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3300"/>
                </a:solidFill>
                <a:latin typeface="Tahoma"/>
                <a:cs typeface="Tahoma"/>
              </a:rPr>
              <a:t>สมรรถนะหลัก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  <a:ea typeface="Tahoma"/>
              </a:rPr>
              <a:t>5 </a:t>
            </a:r>
            <a:r>
              <a:rPr b="1" lang="th-TH" sz="4400" spc="-1" strike="noStrike">
                <a:solidFill>
                  <a:srgbClr val="ff3300"/>
                </a:solidFill>
                <a:latin typeface="Tahoma"/>
                <a:cs typeface="Tahoma"/>
              </a:rPr>
              <a:t>ตั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-39600" y="1074600"/>
            <a:ext cx="9183600" cy="764280"/>
          </a:xfrm>
          <a:prstGeom prst="rect">
            <a:avLst/>
          </a:prstGeom>
          <a:solidFill>
            <a:srgbClr val="a0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1. </a:t>
            </a:r>
            <a:r>
              <a:rPr b="0" lang="th-TH" sz="4400" spc="-1" strike="noStrike">
                <a:solidFill>
                  <a:srgbClr val="333399"/>
                </a:solidFill>
                <a:latin typeface="Tahoma"/>
                <a:cs typeface="Tahoma"/>
              </a:rPr>
              <a:t>การมุ่งผลสัมฤทธิ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-19080" y="2209680"/>
            <a:ext cx="9163080" cy="764280"/>
          </a:xfrm>
          <a:prstGeom prst="rect">
            <a:avLst/>
          </a:prstGeom>
          <a:solidFill>
            <a:srgbClr val="b0f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2. </a:t>
            </a:r>
            <a:r>
              <a:rPr b="0" lang="th-TH" sz="4400" spc="-1" strike="noStrike">
                <a:solidFill>
                  <a:srgbClr val="333399"/>
                </a:solidFill>
                <a:latin typeface="Tahoma"/>
                <a:cs typeface="Tahoma"/>
              </a:rPr>
              <a:t>บริการที่ด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0" y="3251160"/>
            <a:ext cx="91440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3. </a:t>
            </a:r>
            <a:r>
              <a:rPr b="0" lang="th-TH" sz="4000" spc="-1" strike="noStrike">
                <a:solidFill>
                  <a:srgbClr val="333399"/>
                </a:solidFill>
                <a:latin typeface="Tahoma"/>
                <a:cs typeface="Tahoma"/>
              </a:rPr>
              <a:t>การสั่งสมความเชี่ยวชาญในงานอาชี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0" y="4114800"/>
            <a:ext cx="9144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4. </a:t>
            </a:r>
            <a:r>
              <a:rPr b="0" lang="th-TH" sz="4000" spc="-1" strike="noStrike">
                <a:solidFill>
                  <a:srgbClr val="333399"/>
                </a:solidFill>
                <a:latin typeface="Tahoma"/>
                <a:cs typeface="Tahoma"/>
              </a:rPr>
              <a:t>คุณธรรมและจริยธรร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5.  </a:t>
            </a:r>
            <a:r>
              <a:rPr b="0" lang="th-TH" sz="4400" spc="-1" strike="noStrike">
                <a:solidFill>
                  <a:srgbClr val="333399"/>
                </a:solidFill>
                <a:latin typeface="Tahoma"/>
                <a:cs typeface="Tahoma"/>
              </a:rPr>
              <a:t>การทำงานเป็นที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3164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มุ่งผลสัมฤทธิ์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Achievement Motivation-ACH)</a:t>
            </a:r>
            <a:br>
              <a:rPr sz="1800"/>
            </a:br>
            <a:r>
              <a:rPr b="0" lang="th-TH" sz="14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มุ่งมั่นจะปฏิบัติหน้าที่ราชการให้ดีหรือให้เกินมาตรฐานที่มีอยู่ โดยมาตรฐานนี้อาจเป็นผลการปฏิบัติงานที่ผ่านมาของตนเอง หรือเกณฑ์วัดผลสัมฤทธิ์ที่ส่วนราชการกำหนดขึ้น อีกทั้งยังหมายรวมถึงการสร้างสรรค์พัฒนาผลงานหรือกระบวนการปฏิบัติงานตามเป้าหมายที่ยากและท้าทายชนิดที่อาจไม่เคยมีผู้ใดสามารถกระทำได้มาก่อน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447920"/>
          <a:ext cx="7925040" cy="494172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315720">
                <a:tc>
                  <a:txBody>
                    <a:bodyPr lIns="50400" rIns="5040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 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แสดงความพยายามในการปฏิบัติหน้าที่ราชการให้ด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พยายามทำงานในหน้าที่ให้ถูกต้อ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พยายามปฏิบัติงานให้แล้วเสร็จตามกำหนดเวล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มานะอดทน ขยันหมั่นเพียรในการทำงา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สดงออกว่าต้องการทำงานให้ได้ดีขึ้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สดงความเห็นในเชิงปรับปรุงพัฒนาเมื่อเห็นความสูญเปล่า หรือหย่อนประสิทธิภาพในง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ทำงานได้ผลงานตามเป้าหมายที่วางไว้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กำหนดมาตรฐาน หรือเป้าหมายในการทำงานเพื่อให้ได้ผลงานที่ด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ติดตาม และประเมินผลงานของตน โดยเทียบเคียงกับเกณฑ์มาตรฐา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ทำงานได้ตามเป้าหมายที่ผู้บังคับบัญชากำหนด หรือเป้าหมายของหน่วยงานที่รับผิดชอ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มีความละเอียดรอบคอบ เอาใจใส่ ตรวจตราความถูกต้อง เพื่อให้ได้งานที่มีคุณภาพ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ปรับปรุงวิธีการทำงานเพื่อให้ได้ผลงานที่มีประสิทธิภาพมากยิ่งขึ้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รับปรุงวิธีการที่ทำให้ทำงานได้ดีขึ้น เร็วขึ้น มีคุณภาพดีขึ้น มีประสิทธิภาพมากขึ้น หรือทำให้ผู้รับบริการพึงพอใจมากขึ้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สนอหรือทดลองวิธีการทำงานแบบใหม่ที่คาดว่าจะทำให้งานมีประสิทธิภาพมากขึ้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กำหนดเป้าหมาย รวมทั้งพัฒนาวิธีการทำงาน เพื่อให้ได้ผลงานที่โดดเด่น หรือแตกต่างอย่างไม่เคยมีใครทำได้มาก่อ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กำหนดเป้าหมายที่ท้าทาย และเป็นไปได้ยาก เพื่อให้ได้ผลงานที่ดีกว่าเดิมอย่างเห็นได้ชั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พัฒนาระบบ ขั้นตอน วิธีการทำงาน เพื่อให้ได้ผลงานที่โดดเด่น และแตกต่างไม่เคยมีใครทำได้มาก่อ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กล้าตัดสินใจ แม้ว่าการตัดสินใจนั้นจะมีความเสี่ยง เพื่อให้บรรลุเป้าหมายของหน่วยงาน หรือส่วนราชการ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ตัดสินใจได้ โดยมีการคำนวณผลได้ผลเสียอย่างชัดเจน และดำเนินการ เพื่อให้ภาครัฐและประชาชนได้ประโยชน์สูงสุ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บริหารจัดการและทุ่มเทเวลา ตลอดจนทรัพยากร เพื่อให้ได้ประโยชน์สูงสุดต่อภารกิจของหน่วยงานตามที่วางแผนไว้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950-E259-45C8-A3CE-B2F511B6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4771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บริการที่ดี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Service Mind-SERV)</a:t>
            </a:r>
            <a:br>
              <a:rPr sz="1800"/>
            </a:br>
            <a:r>
              <a:rPr b="0" lang="th-TH" sz="18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ตั้งใจและความพยายามของข้าราชการในการให้บริการต่อประชาชน ข้าราชการ หรือหน่วยงานอื่นๆ ที่เกี่ยวข้อ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8080" y="1295280"/>
          <a:ext cx="7467840" cy="47260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2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 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ให้บริการที่ผู้รับบริการต้องการได้ด้วยความเต็มใ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การบริการที่เป็นมิตร สุภาพ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ข้อมูล ข่าวสาร ที่ถูกต้อง ชัดเจนแก่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จ้งให้ผู้รับบริการทราบความคืบหน้าในการดำเนินเรื่อง หรือขั้นตอนงานต่างๆ ที่ให้บริการอยู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ระสานงานภายในหน่วยงาน และกับหน่วยงานอื่นที่เกี่ยวข้อง เพื่อให้ผู้รับบริการได้รับบริการที่ต่อเนื่องและรวดเร็ว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ช่วยแก้ปัญหาให้แก่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บเป็นธุระ ช่วยแก้ปัญหาหรือหาแนวทางแก้ไขปัญหาที่เกิดขึ้นแก่ผู้รับบริการอย่างรวดเร็ว  ไม่บ่ายเบี่ยง ไม่แก้ตัว หรือปัดภาร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ดูแลให้ผู้รับบริการได้รับความพึงพอใจ และนำข้อขัดข้องใดๆ ในการให้บริการไปพัฒนาการให้บริการให้ดียิ่งขึ้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ให้บริการที่เกินความคาดหวัง แม้ต้องใช้เวลาหรือความพยายามอย่างมา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เวลาแก่ผู้รับบริการเป็นพิเศษ เพื่อช่วยแก้ปัญหาให้แก่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ข้อมูล ข่าวสาร ที่เกี่ยวข้องกับงานที่กำลังให้บริการอยู่ ซึ่งเป็นประโยชน์แก่ผู้รับบริการ แม้ว่าผู้รับบริการจะไม่ได้ถามถึง หรือไม่ทราบมาก่อ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นำเสนอวิธีการในการให้บริการที่ผู้รับบริการจะได้รับประโยชน์สูงสุ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เข้าใจและให้บริการที่ตรงตามความต้องการที่แท้จริงของผู้รับบริการได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ข้าใจ หรือพยายามทำความเข้าใจด้วยวิธีการต่างๆ เพื่อให้บริการได้ตรงตามความต้องการที่แท้จริงของ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คำแนะนำที่เป็นประโยชน์แก่ผู้รับบริการ เพื่อตอบสนองความจำเป็นหรือความต้องการที่แท้จริงของผู้รับบริการ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ให้บริการที่เป็นประโยชน์อย่างแท้จริงให้แก่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คิดถึงผลประโยชน์ของผู้รับบริการในระยะยาว และพร้อมที่จะเปลี่ยนวิธีหรือขั้นตอนการให้บริการ เพื่อประโยชน์สูงสุดของ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ป็นที่ปรึกษาที่มีส่วนช่วยในการตัดสินใจที่ผู้รับบริการไว้วางใ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ามารถให้ความเห็นที่แตกต่างจากวิธีการ หรือขั้นตอนที่ผู้รับบริการต้องการให้สอดคล้องกับความจำเป็น ปัญหา โอกาส เพื่อเป็นประโยชน์อย่างแท้จริงขอ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1AEC-09A9-4337-A4A1-5AA7C09CA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สั่งสมความเชี่ยวชาญในงานอาชีพ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Expertise-EXP)</a:t>
            </a:r>
            <a:br>
              <a:rPr sz="1800"/>
            </a:br>
            <a:r>
              <a:rPr b="0" lang="th-TH" sz="16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สนใจใฝ่รู้ สั่งสม ความรู้ความสามารถของตนในการปฏิบัติหน้าที่ราชการ ด้วยการศึกษา ค้นคว้าและ พัฒนาตนเองอย่างต่อเนื่อง จนสามารถประยุกต์ใช้ความรู้เชิงวิชาการและเทคโนโลยีต่างๆ เข้ากับการปฏิบัติราชการให้เกิดผลสัมฤทธิ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447920"/>
          <a:ext cx="7772400" cy="43290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10240">
                <a:tc>
                  <a:txBody>
                    <a:bodyPr lIns="46440" rIns="4644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 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แสดงความสนใจและติดตามความรู้ใหม่ๆ ในสาขาอาชีพของตน หรือที่เกี่ยวข้อง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ศึกษาหาความรู้ สนใจเทคโนโลยีและองค์ความรู้ใหม่ๆ ในสาขาอาชีพของต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พัฒนาความรู้ความสามารถของตนให้ดียิ่งขึ้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ติดตามเทคโนโลยี และความรู้ใหม่ๆ อยู่เสมอด้วยการสืบค้นข้อมูลจากแหล่งต่างๆ ที่จะเป็นประโยชน์ต่อการปฏิบัติราช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มีความรู้ในวิชาการ และเทคโนโลยีใหม่ๆ  ในสาขาอาชีพของต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อบรู้ในเทคโนโลยีหรือองค์ความรู้ใหม่ๆ ในสาขาอาชีพของตน หรือที่เกี่ยวข้อง ซึ่งอาจมีผลกระทบต่อการปฏิบัติหน้าที่ราชการของต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บรู้ถึงแนวโน้มวิทยาการที่ทันสมัย และเกี่ยวข้องกับงานของตน อย่างต่อเนื่อ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นำความรู้ วิทยาการ หรือเทคโนโลยีใหม่ๆ มาปรับใช้กับการปฏิบัติหน้าที่ราช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ามารถนำวิชาการ ความรู้ หรือเทคโนโลยีใหม่ๆ มาประยุกต์ใช้ในการปฏิบัติหน้าที่ราชการได้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ามารถแก้ไขปัญหาที่อาจเกิดจากการนำเทคโนโลยีใหม่มาใช้ในการปฏิบัติหน้าที่ราชการได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6440" rIns="4644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           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ศึกษา พัฒนาตนเองให้มีความรู้ และความเชี่ยวชาญในงานมากขึ้น ทั้งในเชิงลึก และเชิงกว้างอย่างต่อเนื่อง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มีความรู้ความเชี่ยวชาญในเรื่องที่มีลักษณะเป็นสหวิทยาการ และสามารถนำความรู้ไปปรับใช้ได้อย่างกว้างขวา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ามารถนำความรู้เชิงบูรณาการของตนไปใช้ในการสร้างวิสัยทัศน์ เพื่อการปฏิบัติงานในอนาค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นับสนุนการทำงานของคนในส่วนราชการที่เน้นความเชี่ยวชาญในวิทยาการด้านต่าง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นับสนุนให้เกิดบรรยากาศแห่งการพัฒนาความเชี่ยวชาญในองค์กร ด้วยการจัดสรรทรัพยากร เครื่องมือ อุปกรณ์ที่เอื้อต่อการพัฒน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บริหารจัดการให้ส่วนราชการนำเทคโนโลยี ความรู้ หรือวิทยาการใหม่ๆ มาใช้ในการปฏิบัติหน้าที่ราชการในงานอย่างต่อเนื่อ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4582-F0D4-4842-A007-EFADD8C46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ยึดมั่นในความถูกต้องชอบธรรม และจริยธรรม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Integrity – ING)</a:t>
            </a:r>
            <a:br>
              <a:rPr sz="1800"/>
            </a:br>
            <a:r>
              <a:rPr b="0" lang="th-TH" sz="16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ดำรงตนและประพฤติปฏิบัติอย่างถูกต้องเหมาะสมทั้งตามกฎหมาย คุณธรรม จรรยาบรรณแห่งวิชาชีพ และจรรยาข้าราชการเพื่อรักษาศักดิ์ศรีแห่งความเป็นข้าราช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62120" y="1295280"/>
          <a:ext cx="7696080" cy="453708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2451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มีความสุจริ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ฏิบัติหน้าที่ด้วยความสุจริต ไม่เลือกปฏิบัติ ถูกต้องตามกฎหมาย และวินัยข้าราช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สดงความคิดเห็นตามหลักวิชาชีพอย่างสุจริ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: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มีสัจจะเชื่อถือได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กษาคำพูด มีสัจจะ และเชื่อถือได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สดงให้ปรากฎถึงความมีจิตสำนึกในความเป็นข้าราชการ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: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ยึดมั่นในหลัก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ยึดมั่นในหลักการ จรรยาบรรณแห่งวิชาชีพ และจรรยาข้าราชการไม่เบี่ยงเบนด้วยอคติหรือผลประโยชน์ กล้ารับผิด และรับผิดชอ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สียสละความสุขส่วนตน เพื่อให้เกิดประโยชน์แก่ทางราชการ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: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ยืนหยัดเพื่อความถูกต้อ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ยืนหยัดเพื่อความถูกต้องโดยมุ่งพิทักษ์ผลประโยชน์ของทางราชการ แม้ตกอยู่ในสถานการณ์ที่อาจยากลำบา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กล้าตัดสินใจ ปฏิบัติหน้าที่ราชการด้วยความถูกต้อง เป็นธรรม แม้อาจก่อความไม่พึงพอใจให้แก่ผู้เสียประโยชน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: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อุทิศตนเพื่อความยุติธรร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ยืนหยัดพิทักษ์ผลประโยชน์และชื่อเสียงของประเทศชาติแม้ในสถานการณ์ที่อาจเสี่ยงต่อความมั่นคงในตำแหน่งหน้าที่การงาน หรืออาจเสี่ยงภัยต่อชีวิต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77F2-4B55-4D8E-8133-D52A128C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งานเป็นทีม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Teamwork – TW)</a:t>
            </a:r>
            <a:br>
              <a:rPr sz="1800"/>
            </a:br>
            <a:r>
              <a:rPr b="0" lang="th-TH" sz="14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ตั้งใจที่จะทำงานร่วมกับผู้อื่น เป็นส่วนหนึ่งของทีม หน่วยงาน หรือส่วนราชการ  โดยผู้ปฏิบัติมีฐานะเป็นสมาชิก ไม่จำเป็นต้องมีฐานะหัวหน้าทีม รวมทั้งความสามารถในการสร้างและรักษาสัมพันธภาพกับสมาชิกในที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308240"/>
          <a:ext cx="7772400" cy="46274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10240">
                <a:tc>
                  <a:txBody>
                    <a:bodyPr lIns="65520" rIns="6552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ทำหน้าที่ของตนในทีมให้สำเร็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นับสนุนการตัดสินใจของทีม และทำงานในส่วนที่ตนได้รับมอบหมาย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ายงานให้สมาชิกทราบความคืบหน้าของการดำเนินงานของ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ข้อมูล ที่เป็นประโยชน์ต่อการทำงานของ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ให้ความร่วมมือในการทำงานกับเพื่อนร่วมงา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ร้างสัมพันธ์  เข้ากับผู้อื่นในกลุ่มได้ด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ความร่วมมือกับผู้อื่นในทีมด้วยด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กล่าวถึงเพื่อนร่วมงานในเชิงสร้างสรรค์และแสดงความเชื่อมั่นในศักยภาพของเพื่อนร่วมทีม ทั้งต่อหน้าและลับหลั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ประสานความร่วมมือของสมาชิกใน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บฟังความเห็นของสมาชิกในทีม และเต็มใจเรียนรู้จากผู้อื่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ตัดสินใจหรือวางแผนงานร่วมกันในทีมจากความคิดเห็นของเพื่อนร่วม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ระสานและส่งเสริมสัมพันธภาพอันดีในทีม เพื่อสนับสนุนการทำงานร่วมกันให้มีประสิทธิภาพยิ่งขึ้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นับสนุน ช่วยเหลือเพื่อนร่วมทีม เพื่อให้งานประสบความสำเร็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ยกย่อง และให้กำลังใจเพื่อนร่วมทีมอย่างจริงใ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ความช่วยเหลือเกื้อกูลแก่เพื่อนร่วมทีม แม้ไม่มีการร้องข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กษามิตรภาพอันดีกับเพื่อนร่วมทีม เพื่อช่วยเหลือกันในวาระต่างๆให้งานสำเร็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นำทีมให้ปฏิบัติภารกิจให้ได้ผลสำเร็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สริมสร้างความสามัคคีในทีม โดยไม่คำนึงความชอบหรือไม่ชอบส่วนต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คลี่คลาย หรือแก้ไขข้อขัดแย้งที่เกิดขึ้นใน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ระสานสัมพันธ์ สร้างขวัญกำลังใจของทีมเพื่อปฏิบัติภารกิจของส่วนราชการให้บรรลุผ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9AAB-BF6D-4183-A7A4-CE435946A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33400" y="560520"/>
          <a:ext cx="8229600" cy="5638680"/>
        </p:xfrm>
        <a:graphic>
          <a:graphicData uri="http://schemas.openxmlformats.org/drawingml/2006/table">
            <a:tbl>
              <a:tblPr/>
              <a:tblGrid>
                <a:gridCol w="914400"/>
                <a:gridCol w="582480"/>
                <a:gridCol w="747720"/>
                <a:gridCol w="747720"/>
                <a:gridCol w="747720"/>
                <a:gridCol w="749520"/>
                <a:gridCol w="747720"/>
                <a:gridCol w="747720"/>
                <a:gridCol w="747720"/>
                <a:gridCol w="749160"/>
                <a:gridCol w="7477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ะเภท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ั้น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ามรู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ักษ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สมรรถน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ใน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ฎหม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อม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ังกฤ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ำนว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จัดการข้อมู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หลั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างการบริห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ฉพา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ทรง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ฏิบัติ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าวุโ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ักษะพิเศ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ฏิบัติ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การพิเศ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ชี่ยวชา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รงคุณวุฒ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ำนวยฯต้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ำนวยฯสู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69"/>
          <p:cNvSpPr/>
          <p:nvPr/>
        </p:nvSpPr>
        <p:spPr>
          <a:xfrm>
            <a:off x="0" y="4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99"/>
                </a:solidFill>
                <a:latin typeface="Arial"/>
              </a:rPr>
              <a:t>ระดับสมรรถนะหลักที่คาดหวัง แบ่งตามประเภทและชั้นงาน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P  1</a:t>
            </a:r>
            <a:r>
              <a:rPr b="1" lang="th-TH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2"/>
          <p:cNvSpPr/>
          <p:nvPr/>
        </p:nvSpPr>
        <p:spPr>
          <a:xfrm>
            <a:off x="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3"/>
          <p:cNvSpPr/>
          <p:nvPr/>
        </p:nvSpPr>
        <p:spPr>
          <a:xfrm>
            <a:off x="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4"/>
          <p:cNvSpPr/>
          <p:nvPr/>
        </p:nvSpPr>
        <p:spPr>
          <a:xfrm>
            <a:off x="81000" y="1446120"/>
            <a:ext cx="59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ทั่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ไ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5"/>
          <p:cNvSpPr/>
          <p:nvPr/>
        </p:nvSpPr>
        <p:spPr>
          <a:xfrm>
            <a:off x="-20160" y="3705120"/>
            <a:ext cx="7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วิช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6"/>
          <p:cNvSpPr/>
          <p:nvPr/>
        </p:nvSpPr>
        <p:spPr>
          <a:xfrm>
            <a:off x="85680" y="5491080"/>
            <a:ext cx="76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อ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นวย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2:25:22Z</dcterms:created>
  <dc:creator>bppdr33</dc:creator>
  <dc:description/>
  <dc:language>en-US</dc:language>
  <cp:lastModifiedBy>aorawun</cp:lastModifiedBy>
  <cp:lastPrinted>2006-12-15T07:40:12Z</cp:lastPrinted>
  <dcterms:modified xsi:type="dcterms:W3CDTF">2012-05-20T15:31:03Z</dcterms:modified>
  <cp:revision>398</cp:revision>
  <dc:subject/>
  <dc:title>แนวคิดเกี่ยวกับสมรรถนะ (Competency)</dc:title>
</cp:coreProperties>
</file>